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CC9F7-D077-4E92-8154-FBFCD3FA1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your actions, words, and even thoughts are controlled by your personal ideas of right and wrong. But do your ethics shift when you go to work? Your responsibility at work is to follow the ethics that the owner has established for the busines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is all around us, and affects almost every aspect of our daily lives. Because technology moves faster than rules to govern it, how technology is used is left up to the individual with the guidance of their personal ethics. In both good and bad ways, technology affects our community life, family life, work environments, education, and medical research, to only name a few.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our society have a responsibility to use technology to help achieve social justice? Freeman Dyson, an American physicist and mathematician, has sparked discussion about this argument by saying that science is concentrating too much on “making toys for the rich” instead of addressing the necessities of the poor. There is the promise of great financial reward in creating an even smaller cellular phone but little incentive to find solar energy solutions to help struggling rural communiti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ocates of Dyson’s position maintain that a lack of technology or resources is not what keeps the majority of the world’s population in poverty. Instead, they would argue that it is a lack of commitment and focus on the problem of social justice that allows poverty to continu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opposed to Dyson’s position feel his suggestions on using technology for social change are impractical and unachievable with the current resources. They feel his plan might even be dangerous to pursue since there may be unforeseen scientific and political result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lectual property (such as music, writing and art) is protected through copyright laws. This means creative works such as songs, video productions, television programs, and written manuscripts cannot be reproduced without the permission of the creator and usually not without payment to the copyright own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 use decisions are guided by four criteri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rpose of the “fair use” of the work (for example, is it a for-profit use or an educational us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nature of the proposed work (for example, will it be a published document or an unpublished produc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uch of the copyrighted material is being use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ffect of the “fair use” of the material (for example, would it decrease the number of copies of the original that would be s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sts and critics will be silenced if they are forced to fear legal action every time they use a portion of copyrighted material. The aggressive—and expensive—style of enforcement that copyright holders now use limits the free expression of ideas that is a cornerstone of most democratic societi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ready there are existing guidelines for what defines fair use. Because in the past these guidelines have worked well to protect the interests of both parties, there is no need to modify the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cy is a basic human right, like respect for others and being treated with dignity. But what exactly is privacy? Simply stated, privacy is the right to be left alone to do as one pleases. The idea of privacy is often associated with hiding something (a behavior, a relationship, or a secr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advent of the digital society, however, personal privacy is becoming more difficult to defin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ocates for protecting privacy in the United States argue that the right to privacy is a basic human right that should be afforded to everyone. As long as individuals aren’t hurting anyone or breaking any laws, people should be entitled to do what they want without fear of being monitor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444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echnology in Focus feature looks at the ethics of I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ocates for stronger monitoring of private citizens usually cite national security concerns and the prevention of terrorist activities. Inconveniencing ordinary people who are doing nothing wrong is just a price that must be paid to ensure that society is free from malicious acts by a few malconten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gambling is currently a multi-billion dollar industr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gambling is already illegal in the United States. Legislation was passed in October 2006 to reinforce the prohibition of online gambling and yet it remains a viable and growing industry worldwi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gambling encourages gamblers to play 24 hours a day from home, and facilitates addictive gambling.</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ocates for continuing the ban of online gambling in the United States argue that thorough and extensive enforcement of the current prohibition would stop online gambling, and hence eliminate the source of the problem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ocates for legalizing online gambling in the United States argue that legalizing online gambling will bring it out of the underworld and place stricter controls on the industry. Enforced governmental regulations placed on current onsite gambling facilities could be applied to online sites and eliminate the source of the problem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rly 2006, Google conceded to demands by Beijing to self-censor its search engine. Google was following in the footsteps of other large U.S. high-tech companies that had previously collaborated with the Chinese government in suppressing dissent in return for access to the booming Chinese Internet market. This has created the controversy that corporate America has defined the price it is willing to pay to obtain Chinese business. The theory behind Google’s decision is that when a company decides to do business, it must operate within the rules of that marke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protesting Google’s actions are those who fight for human rights at any level. They feel that Google’s compliant behavior only condones China’s censorship policies and continues to thwart the movement to enhance human rights initiatives in China.</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ocates of Google’s actions tend to be other businesses and those with large economic interests that can relate to Google’s business predicament. They feel that Google acted in accordance with “doing business” and should abide by the laws of the local government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abuse is loosely defined as using a computer or the Internet to harm another individual. By providing anonymity, the Internet facilitates such unsavory activities 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of sexual predators to contact potential victi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ribution of pornograph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berbullying (harassing individuals through electronic me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shing, or tricking individuals out of sensitive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semination of hate speech</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computer abuse is a threat to everyone, children are especially vulnerable as they tend to use technology more than adults, are more trusting than many adults, and may lack the real life experience to identify malicious intent or behavior.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advocates of filtering software in publicly funded institutions cite the need to protect minors from material deemed objectionable by accepted public standard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are the study of the general nature of morals and of the specific moral choices made by individuals. Morals involve conforming to established or accepted ideas of right and wrong (usually dictated by society) and are usually fairly black and white. Ethics usually involves subtle distinctions such as fairness and equity. Ethics are the guidelines you use to make decisions each day.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nents of filtering software cite the first amendment, which guarantees free speech and hence free access to informat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is used by many charitable organizations for fund rais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businesses are using their Web sites to allow whistleblowers to report wrongdoing anonymously, replacing their previous e-mail and telephone hotline systems that did not shield the employee from being identifi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systems such as Intranets and e-mail are also excellent mechanisms for informing employees about ethics polic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personal ethics—combined with the ethical guidelines your company provides and the general ethical environment of society—will guide your decis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systems of ethical conduct. On one extreme is moral relativism, a theory in which there is no universal moral truth, that instead there are only beliefs, perspectives, and values. Everyone has his or her own ideas of right and wro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thical philosophy is situational ethics, which states that decision-making should be based upon the circumstances of a particular situation and not upon fixed la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ethical systems, some of which are defined by religious tradition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thical behavior can be defined as not conforming to a set of approved standards of social or professional behavior. These behaviors can be found in social and professional area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people have a clear, well-defined set of principles they follow. Sometimes a person’s ethics are inconsistent or are applied differently in similar situat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contributors to your ethical development. Naturally, your family has a major impact in establishing the values you cherish in your own life, and these might include a cultural bias toward certain moral pos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religious affiliation is another major factor in the development of your ethical life, as most religions have established specific codes of ethical con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life experiences also affect your personal ethic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very clear and firm resolve on what values are most important to you, it may be easier to handle situations in your professional and your personal life that demand ethical action. Follow these steps to help define your personal ethic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be yourself.</a:t>
            </a:r>
            <a:r>
              <a:rPr b="0" lang="en-US" sz="1200" spc="-1" strike="noStrike">
                <a:solidFill>
                  <a:srgbClr val="000000"/>
                </a:solidFill>
                <a:latin typeface="Arial"/>
              </a:rPr>
              <a:t> Write down a description of who you are based on how others view you. Would a friend describe you as honest or helpful or ki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st your beliefs.</a:t>
            </a:r>
            <a:r>
              <a:rPr b="0" lang="en-US" sz="1200" spc="-1" strike="noStrike">
                <a:solidFill>
                  <a:srgbClr val="000000"/>
                </a:solidFill>
                <a:latin typeface="Arial"/>
              </a:rPr>
              <a:t> Make a list of all of the beliefs that influence your decision-making. For example, would you be okay with working as a research assistant in a lab that infected dogs with diseases to use them for medical research? How important is it to you that you never speak a lie? Consider whether your answers to each of these questions are “flexible.” Are there situations where your answers might change (say, if a friend was ill or in dang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external influences.</a:t>
            </a:r>
            <a:r>
              <a:rPr b="0" lang="en-US" sz="1200" spc="-1" strike="noStrike">
                <a:solidFill>
                  <a:srgbClr val="000000"/>
                </a:solidFill>
                <a:latin typeface="Arial"/>
              </a:rPr>
              <a:t> Consider the places you work and live and how you relate to the people you see during the day. Are there things that you would like to change about these relationships that would involve listing them in a code of ethic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ider “why.”</a:t>
            </a:r>
            <a:r>
              <a:rPr b="0" lang="en-US" sz="1200" spc="-1" strike="noStrike">
                <a:solidFill>
                  <a:srgbClr val="000000"/>
                </a:solidFill>
                <a:latin typeface="Arial"/>
              </a:rPr>
              <a:t> After writing down your beliefs, think about why you believe them. Have you accepted them without investigation or do they stand up to the test of real world experiences in your life? Which of these values are worthy of short-term sacrifice in order to uphold your belief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are a statement of values.</a:t>
            </a:r>
            <a:r>
              <a:rPr b="0" lang="en-US" sz="1200" spc="-1" strike="noStrike">
                <a:solidFill>
                  <a:srgbClr val="000000"/>
                </a:solidFill>
                <a:latin typeface="Arial"/>
              </a:rPr>
              <a:t> It can be useful to distill what you have written into a short list. By having a well defined statement of the values you hold most important in your own life to refer to in times of challenge, it will be easier for you to make ethical decis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ety has established its own set of rules of conduct as laws. Ignoring or being inconsistent in following these principles can surely have an immediate impact! Whether it is complying with a law about the way your business is run or following laws that impact your personal life (don’t exceed the speed limit or you’ll receive a fine), decision-making principles that work with society’s legal boundaries can make your life much simp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nd more research is showing health benefits to be a result of ethical living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4735F-02C1-4A8D-9DA4-EA7FF6C44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9BB95-FCB9-4C48-943F-44CC9D1F2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044BA-BE96-48A7-B638-B20C05F20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9B333-8E4E-4FB9-B9E5-91E0FC388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461F5-DF7D-49F7-8D4D-26EE70C82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A20E0-C185-4D33-8FD3-EDE709882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DB233-DC96-4545-A743-DB9D54806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60967-3EA1-4069-A33E-2943EDDDF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371CD-9E83-4965-8268-108B7012E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4F826-EE38-40CF-9E66-79183E072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6C633-70AE-483C-836B-222226B55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43DEE-70DE-423D-A816-0408C0359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8160"/>
            <a:ext cx="2514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9C734-606C-43FC-B696-C54DC42246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0BE60-C566-4A38-8423-29F3830F95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 descr=""/>
          <p:cNvPicPr/>
          <p:nvPr/>
        </p:nvPicPr>
        <p:blipFill>
          <a:blip r:embed="rId1"/>
          <a:stretch/>
        </p:blipFill>
        <p:spPr>
          <a:xfrm>
            <a:off x="2629080" y="939960"/>
            <a:ext cx="3886200" cy="4978080"/>
          </a:xfrm>
          <a:prstGeom prst="rect">
            <a:avLst/>
          </a:prstGeom>
          <a:ln w="0">
            <a:noFill/>
          </a:ln>
        </p:spPr>
      </p:pic>
      <p:sp>
        <p:nvSpPr>
          <p:cNvPr id="2" name="PlaceHolder 1"/>
          <p:cNvSpPr>
            <a:spLocks noGrp="1"/>
          </p:cNvSpPr>
          <p:nvPr>
            <p:ph type="sldNum" idx="3"/>
          </p:nvPr>
        </p:nvSpPr>
        <p:spPr/>
        <p:txBody>
          <a:bodyPr/>
          <a:p>
            <a:fld id="{00BBB0F7-E187-4463-B777-00965DDE90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2743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ersonal Ethics in the </a:t>
            </a:r>
            <a:br>
              <a:rPr sz="4400"/>
            </a:br>
            <a:r>
              <a:rPr b="0" lang="en-US" sz="4400" spc="-1" strike="noStrike">
                <a:solidFill>
                  <a:srgbClr val="2f8b20"/>
                </a:solidFill>
                <a:latin typeface="Arial"/>
              </a:rPr>
              <a:t>World View</a:t>
            </a:r>
            <a:endParaRPr b="0" lang="en-US" sz="4400" spc="-1" strike="noStrike">
              <a:solidFill>
                <a:srgbClr val="2f8b20"/>
              </a:solidFill>
              <a:latin typeface="Arial"/>
            </a:endParaRPr>
          </a:p>
        </p:txBody>
      </p:sp>
      <p:sp>
        <p:nvSpPr>
          <p:cNvPr id="68" name="PlaceHolder 2"/>
          <p:cNvSpPr>
            <a:spLocks noGrp="1"/>
          </p:cNvSpPr>
          <p:nvPr>
            <p:ph/>
          </p:nvPr>
        </p:nvSpPr>
        <p:spPr>
          <a:xfrm>
            <a:off x="914400" y="1752480"/>
            <a:ext cx="8229600" cy="2362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r ethics match the workpl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you ethics away from work a concern for your employe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A81FEAF-A3AA-43FC-9B2D-269B923DAF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echnology and Ethics</a:t>
            </a:r>
            <a:endParaRPr b="0" lang="en-US" sz="4400" spc="-1" strike="noStrike">
              <a:solidFill>
                <a:srgbClr val="2f8b20"/>
              </a:solidFill>
              <a:latin typeface="Arial"/>
            </a:endParaRPr>
          </a:p>
        </p:txBody>
      </p:sp>
      <p:sp>
        <p:nvSpPr>
          <p:cNvPr id="70" name="PlaceHolder 2"/>
          <p:cNvSpPr>
            <a:spLocks noGrp="1"/>
          </p:cNvSpPr>
          <p:nvPr>
            <p:ph/>
          </p:nvPr>
        </p:nvSpPr>
        <p:spPr>
          <a:xfrm>
            <a:off x="457200" y="1828800"/>
            <a:ext cx="8153280" cy="4038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is all around 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moves quick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s governing technology move more slow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technology left to personal ethic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1A8A8B2-9EC6-48ED-BE26-36EBA2FEEE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Social Justice: Can Technology</a:t>
            </a:r>
            <a:br>
              <a:rPr sz="4000"/>
            </a:br>
            <a:r>
              <a:rPr b="0" lang="en-US" sz="4000" spc="-1" strike="noStrike">
                <a:solidFill>
                  <a:srgbClr val="2f8b20"/>
                </a:solidFill>
                <a:latin typeface="Arial"/>
              </a:rPr>
              <a:t>Be Used to Benefit Everyone?</a:t>
            </a:r>
            <a:endParaRPr b="0" lang="en-US" sz="4000" spc="-1" strike="noStrike">
              <a:solidFill>
                <a:srgbClr val="2f8b20"/>
              </a:solidFill>
              <a:latin typeface="Arial"/>
            </a:endParaRPr>
          </a:p>
        </p:txBody>
      </p:sp>
      <p:sp>
        <p:nvSpPr>
          <p:cNvPr id="72" name="PlaceHolder 2"/>
          <p:cNvSpPr>
            <a:spLocks noGrp="1"/>
          </p:cNvSpPr>
          <p:nvPr>
            <p:ph/>
          </p:nvPr>
        </p:nvSpPr>
        <p:spPr>
          <a:xfrm>
            <a:off x="533520" y="1676160"/>
            <a:ext cx="82296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use technology to achieve social jus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apply these technologies to poor are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ar ener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tic engineer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acces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4334538-C6B2-482D-BD34-DE3FAC8D3D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Social Justice: Can Technology</a:t>
            </a:r>
            <a:br>
              <a:rPr sz="4000"/>
            </a:br>
            <a:r>
              <a:rPr b="0" lang="en-US" sz="4000" spc="-1" strike="noStrike">
                <a:solidFill>
                  <a:srgbClr val="2f8b20"/>
                </a:solidFill>
                <a:latin typeface="Arial"/>
              </a:rPr>
              <a:t>Be Used to Benefit Everyone?</a:t>
            </a:r>
            <a:endParaRPr b="0" lang="en-US" sz="4000" spc="-1" strike="noStrike">
              <a:solidFill>
                <a:srgbClr val="2f8b20"/>
              </a:solidFill>
              <a:latin typeface="Arial"/>
            </a:endParaRPr>
          </a:p>
        </p:txBody>
      </p:sp>
      <p:sp>
        <p:nvSpPr>
          <p:cNvPr id="74" name="PlaceHolder 2"/>
          <p:cNvSpPr>
            <a:spLocks noGrp="1"/>
          </p:cNvSpPr>
          <p:nvPr>
            <p:ph/>
          </p:nvPr>
        </p:nvSpPr>
        <p:spPr>
          <a:xfrm>
            <a:off x="533520" y="1676160"/>
            <a:ext cx="82296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Technology Provides Economic Opportunity for Al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be used to eliminate pover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improve quality of life in poor count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be an ethical forc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2A56EEA-6CCC-4FBF-ABB4-0CF0A5D9A2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Social Justice: Can Technology</a:t>
            </a:r>
            <a:br>
              <a:rPr sz="4000"/>
            </a:br>
            <a:r>
              <a:rPr b="0" lang="en-US" sz="4000" spc="-1" strike="noStrike">
                <a:solidFill>
                  <a:srgbClr val="2f8b20"/>
                </a:solidFill>
                <a:latin typeface="Arial"/>
              </a:rPr>
              <a:t>Be Used to Benefit Everyone?</a:t>
            </a:r>
            <a:endParaRPr b="0" lang="en-US" sz="4000" spc="-1" strike="noStrike">
              <a:solidFill>
                <a:srgbClr val="2f8b20"/>
              </a:solidFill>
              <a:latin typeface="Arial"/>
            </a:endParaRPr>
          </a:p>
        </p:txBody>
      </p:sp>
      <p:sp>
        <p:nvSpPr>
          <p:cNvPr id="76" name="PlaceHolder 2"/>
          <p:cNvSpPr>
            <a:spLocks noGrp="1"/>
          </p:cNvSpPr>
          <p:nvPr>
            <p:ph/>
          </p:nvPr>
        </p:nvSpPr>
        <p:spPr>
          <a:xfrm>
            <a:off x="533520" y="1676160"/>
            <a:ext cx="82296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erpoint: Technology Doesn’t Provide Economic Opportunity for All</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ne can solve the problem of poverty</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not be addressed by technologists</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risks of new technolog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ts to existing world economi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234561C-09BC-415F-B5AA-39AB785D8F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Intellectual Property: What Is</a:t>
            </a:r>
            <a:br>
              <a:rPr sz="4000"/>
            </a:br>
            <a:r>
              <a:rPr b="0" lang="en-US" sz="4000" spc="-1" strike="noStrike">
                <a:solidFill>
                  <a:srgbClr val="2f8b20"/>
                </a:solidFill>
                <a:latin typeface="Arial"/>
              </a:rPr>
              <a:t>Fair About Fair Use?</a:t>
            </a:r>
            <a:endParaRPr b="0" lang="en-US" sz="4000" spc="-1" strike="noStrike">
              <a:solidFill>
                <a:srgbClr val="2f8b20"/>
              </a:solidFill>
              <a:latin typeface="Arial"/>
            </a:endParaRPr>
          </a:p>
        </p:txBody>
      </p:sp>
      <p:sp>
        <p:nvSpPr>
          <p:cNvPr id="78"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yright laws protect intellectual proper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r us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for exceptions to copyright law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r use criteri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urpose of the 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nature of the proposed 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copyrighted material is being us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effect on the original material?</a:t>
            </a:r>
            <a:endParaRPr b="0" lang="en-US" sz="2800" spc="-1" strike="noStrike">
              <a:solidFill>
                <a:srgbClr val="000000"/>
              </a:solidFill>
              <a:latin typeface="Arial"/>
            </a:endParaRPr>
          </a:p>
        </p:txBody>
      </p:sp>
      <p:sp>
        <p:nvSpPr>
          <p:cNvPr id="79" name=""/>
          <p:cNvSpPr/>
          <p:nvPr/>
        </p:nvSpPr>
        <p:spPr>
          <a:xfrm>
            <a:off x="5257800" y="6172200"/>
            <a:ext cx="281952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CDEBE31-5E33-463D-A3A0-B6CB20C311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Intellectual Property: What Is</a:t>
            </a:r>
            <a:br>
              <a:rPr sz="4000"/>
            </a:br>
            <a:r>
              <a:rPr b="0" lang="en-US" sz="4000" spc="-1" strike="noStrike">
                <a:solidFill>
                  <a:srgbClr val="2f8b20"/>
                </a:solidFill>
                <a:latin typeface="Arial"/>
              </a:rPr>
              <a:t>Fair About Fair Use?</a:t>
            </a:r>
            <a:endParaRPr b="0" lang="en-US" sz="4000" spc="-1" strike="noStrike">
              <a:solidFill>
                <a:srgbClr val="2f8b20"/>
              </a:solidFill>
              <a:latin typeface="Arial"/>
            </a:endParaRPr>
          </a:p>
        </p:txBody>
      </p:sp>
      <p:sp>
        <p:nvSpPr>
          <p:cNvPr id="81"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Liberal Fair Use Standards Are Benefici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s wide dissemination of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the most democratic, free socie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ing laws not up-to-date with technology</a:t>
            </a:r>
            <a:endParaRPr b="0" lang="en-US" sz="2800" spc="-1" strike="noStrike">
              <a:solidFill>
                <a:srgbClr val="000000"/>
              </a:solidFill>
              <a:latin typeface="Arial"/>
            </a:endParaRPr>
          </a:p>
        </p:txBody>
      </p:sp>
      <p:sp>
        <p:nvSpPr>
          <p:cNvPr id="82" name=""/>
          <p:cNvSpPr/>
          <p:nvPr/>
        </p:nvSpPr>
        <p:spPr>
          <a:xfrm>
            <a:off x="5257800" y="6172200"/>
            <a:ext cx="281952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F6C7A5C-3FF0-4268-A961-332118A775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Intellectual Property: What Is</a:t>
            </a:r>
            <a:br>
              <a:rPr sz="4000"/>
            </a:br>
            <a:r>
              <a:rPr b="0" lang="en-US" sz="4000" spc="-1" strike="noStrike">
                <a:solidFill>
                  <a:srgbClr val="2f8b20"/>
                </a:solidFill>
                <a:latin typeface="Arial"/>
              </a:rPr>
              <a:t>Fair About Fair Use?</a:t>
            </a:r>
            <a:endParaRPr b="0" lang="en-US" sz="4000" spc="-1" strike="noStrike">
              <a:solidFill>
                <a:srgbClr val="2f8b20"/>
              </a:solidFill>
              <a:latin typeface="Arial"/>
            </a:endParaRPr>
          </a:p>
        </p:txBody>
      </p:sp>
      <p:sp>
        <p:nvSpPr>
          <p:cNvPr id="84"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erpoint: Strict Fair Use Standards Are Benefici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ing laws should not be changed because technology has chang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right holders should control their own work</a:t>
            </a:r>
            <a:endParaRPr b="0" lang="en-US" sz="2800" spc="-1" strike="noStrike">
              <a:solidFill>
                <a:srgbClr val="000000"/>
              </a:solidFill>
              <a:latin typeface="Arial"/>
            </a:endParaRPr>
          </a:p>
        </p:txBody>
      </p:sp>
      <p:sp>
        <p:nvSpPr>
          <p:cNvPr id="85" name=""/>
          <p:cNvSpPr/>
          <p:nvPr/>
        </p:nvSpPr>
        <p:spPr>
          <a:xfrm>
            <a:off x="5257800" y="6172200"/>
            <a:ext cx="281952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1AE2578-C234-4012-A70C-7DFE11F46B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Privacy: Is Personal Privacy</a:t>
            </a:r>
            <a:br>
              <a:rPr sz="4000"/>
            </a:br>
            <a:r>
              <a:rPr b="0" lang="en-US" sz="4000" spc="-1" strike="noStrike">
                <a:solidFill>
                  <a:srgbClr val="2f8b20"/>
                </a:solidFill>
                <a:latin typeface="Arial"/>
              </a:rPr>
              <a:t>a Casualty of the Modern Age?</a:t>
            </a:r>
            <a:endParaRPr b="0" lang="en-US" sz="4000" spc="-1" strike="noStrike">
              <a:solidFill>
                <a:srgbClr val="2f8b20"/>
              </a:solidFill>
              <a:latin typeface="Arial"/>
            </a:endParaRPr>
          </a:p>
        </p:txBody>
      </p:sp>
      <p:sp>
        <p:nvSpPr>
          <p:cNvPr id="87" name="PlaceHolder 2"/>
          <p:cNvSpPr>
            <a:spLocks noGrp="1"/>
          </p:cNvSpPr>
          <p:nvPr>
            <p:ph/>
          </p:nvPr>
        </p:nvSpPr>
        <p:spPr>
          <a:xfrm>
            <a:off x="457200" y="1600200"/>
            <a:ext cx="7696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cy is a basic human ri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f our transactions are record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it ca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yalty ca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toll pass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61B4548-1E38-4C62-81F0-BFB9FC28F9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Privacy: Is Personal Privacy</a:t>
            </a:r>
            <a:br>
              <a:rPr sz="4000"/>
            </a:br>
            <a:r>
              <a:rPr b="0" lang="en-US" sz="4000" spc="-1" strike="noStrike">
                <a:solidFill>
                  <a:srgbClr val="2f8b20"/>
                </a:solidFill>
                <a:latin typeface="Arial"/>
              </a:rPr>
              <a:t>a Casualty of the Modern Age?</a:t>
            </a:r>
            <a:endParaRPr b="0" lang="en-US" sz="4000" spc="-1" strike="noStrike">
              <a:solidFill>
                <a:srgbClr val="2f8b20"/>
              </a:solidFill>
              <a:latin typeface="Arial"/>
            </a:endParaRPr>
          </a:p>
        </p:txBody>
      </p:sp>
      <p:sp>
        <p:nvSpPr>
          <p:cNvPr id="89" name="PlaceHolder 2"/>
          <p:cNvSpPr>
            <a:spLocks noGrp="1"/>
          </p:cNvSpPr>
          <p:nvPr>
            <p:ph/>
          </p:nvPr>
        </p:nvSpPr>
        <p:spPr>
          <a:xfrm>
            <a:off x="457200" y="1828800"/>
            <a:ext cx="7696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Protect Personal Privac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reason to watch 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misuse of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control of populatio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ID cards remind people of Naz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cy controls are expensiv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2DDF9F4-11FF-4AF0-B3EB-D9D4336E08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2" name="PlaceHolder 2"/>
          <p:cNvSpPr>
            <a:spLocks noGrp="1"/>
          </p:cNvSpPr>
          <p:nvPr>
            <p:ph/>
          </p:nvPr>
        </p:nvSpPr>
        <p:spPr>
          <a:xfrm>
            <a:off x="457200" y="2590560"/>
            <a:ext cx="822960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in Focu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formation Technology Ethic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98180C0-75F4-45BF-9544-46122E2749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Privacy: Is Personal Privacy</a:t>
            </a:r>
            <a:br>
              <a:rPr sz="4000"/>
            </a:br>
            <a:r>
              <a:rPr b="0" lang="en-US" sz="4000" spc="-1" strike="noStrike">
                <a:solidFill>
                  <a:srgbClr val="2f8b20"/>
                </a:solidFill>
                <a:latin typeface="Arial"/>
              </a:rPr>
              <a:t>a Casualty of the Modern Age?</a:t>
            </a:r>
            <a:endParaRPr b="0" lang="en-US" sz="4000" spc="-1" strike="noStrike">
              <a:solidFill>
                <a:srgbClr val="2f8b20"/>
              </a:solidFill>
              <a:latin typeface="Arial"/>
            </a:endParaRPr>
          </a:p>
        </p:txBody>
      </p:sp>
      <p:sp>
        <p:nvSpPr>
          <p:cNvPr id="91" name="PlaceHolder 2"/>
          <p:cNvSpPr>
            <a:spLocks noGrp="1"/>
          </p:cNvSpPr>
          <p:nvPr>
            <p:ph/>
          </p:nvPr>
        </p:nvSpPr>
        <p:spPr>
          <a:xfrm>
            <a:off x="457200" y="1828800"/>
            <a:ext cx="7696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erpoint: Reduced Privacy Is a Fact of Modern Lif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have nothing to hi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enhance the detection of terrori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 citizens from being abu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ID card worth the cos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AEF63C9-C942-4FEA-9B88-9A17FDF311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3805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merce: Should Online Gambling Be Banned or Regulated?</a:t>
            </a:r>
            <a:endParaRPr b="0" lang="en-US" sz="4000" spc="-1" strike="noStrike">
              <a:solidFill>
                <a:srgbClr val="2f8b20"/>
              </a:solidFill>
              <a:latin typeface="Arial"/>
            </a:endParaRPr>
          </a:p>
        </p:txBody>
      </p:sp>
      <p:sp>
        <p:nvSpPr>
          <p:cNvPr id="93" name="PlaceHolder 2"/>
          <p:cNvSpPr>
            <a:spLocks noGrp="1"/>
          </p:cNvSpPr>
          <p:nvPr>
            <p:ph/>
          </p:nvPr>
        </p:nvSpPr>
        <p:spPr>
          <a:xfrm>
            <a:off x="533520" y="1981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billion dollar indus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ready illegal in 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ates addictive gambl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B2B52E3-0227-433C-868B-8512B68951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45684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merce: Should Online Gambling Be Banned or Regulated?</a:t>
            </a:r>
            <a:endParaRPr b="0" lang="en-US" sz="4000" spc="-1" strike="noStrike">
              <a:solidFill>
                <a:srgbClr val="2f8b20"/>
              </a:solidFill>
              <a:latin typeface="Arial"/>
            </a:endParaRPr>
          </a:p>
        </p:txBody>
      </p:sp>
      <p:sp>
        <p:nvSpPr>
          <p:cNvPr id="95" name="PlaceHolder 2"/>
          <p:cNvSpPr>
            <a:spLocks noGrp="1"/>
          </p:cNvSpPr>
          <p:nvPr>
            <p:ph/>
          </p:nvPr>
        </p:nvSpPr>
        <p:spPr>
          <a:xfrm>
            <a:off x="533520" y="18288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Ban Online Gambl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access for minors and compulsive gambl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support criminal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regulation: who keeps the house hone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gamblers to hide their addic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E88C923-16FC-4BCA-BDFD-AABD9EFC3A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5331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merce: Should Online Gambling Be Banned or Regulated?</a:t>
            </a:r>
            <a:endParaRPr b="0" lang="en-US" sz="4000" spc="-1" strike="noStrike">
              <a:solidFill>
                <a:srgbClr val="2f8b20"/>
              </a:solidFill>
              <a:latin typeface="Arial"/>
            </a:endParaRPr>
          </a:p>
        </p:txBody>
      </p:sp>
      <p:sp>
        <p:nvSpPr>
          <p:cNvPr id="97" name="PlaceHolder 2"/>
          <p:cNvSpPr>
            <a:spLocks noGrp="1"/>
          </p:cNvSpPr>
          <p:nvPr>
            <p:ph/>
          </p:nvPr>
        </p:nvSpPr>
        <p:spPr>
          <a:xfrm>
            <a:off x="533520" y="1981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erpoint: Legalize Online Gambl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 consumer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for scrutiny of all transa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e the industr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tax reven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ed in other count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er to regulate than prohibi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153FB04-9F30-4B3E-B555-00BF73FD1A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510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munication: When Does </a:t>
            </a:r>
            <a:br>
              <a:rPr sz="4000"/>
            </a:br>
            <a:r>
              <a:rPr b="0" lang="en-US" sz="4000" spc="-1" strike="noStrike">
                <a:solidFill>
                  <a:srgbClr val="2f8b20"/>
                </a:solidFill>
                <a:latin typeface="Arial"/>
              </a:rPr>
              <a:t>Big Business Limit Free Speech?</a:t>
            </a:r>
            <a:endParaRPr b="0" lang="en-US" sz="4000" spc="-1" strike="noStrike">
              <a:solidFill>
                <a:srgbClr val="2f8b20"/>
              </a:solidFill>
              <a:latin typeface="Arial"/>
            </a:endParaRPr>
          </a:p>
        </p:txBody>
      </p:sp>
      <p:sp>
        <p:nvSpPr>
          <p:cNvPr id="99" name="PlaceHolder 2"/>
          <p:cNvSpPr>
            <a:spLocks noGrp="1"/>
          </p:cNvSpPr>
          <p:nvPr>
            <p:ph/>
          </p:nvPr>
        </p:nvSpPr>
        <p:spPr>
          <a:xfrm>
            <a:off x="685800" y="1752120"/>
            <a:ext cx="769608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gle concedes to demands from Beijing to self-censor its search eng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suppress dissent in return for access to the Chinese mark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of doing business in Chinese mark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Chinese market is huge</a:t>
            </a:r>
            <a:endParaRPr b="0" lang="en-US" sz="2800" spc="-1" strike="noStrike">
              <a:solidFill>
                <a:srgbClr val="000000"/>
              </a:solidFill>
              <a:latin typeface="Arial"/>
            </a:endParaRPr>
          </a:p>
        </p:txBody>
      </p:sp>
      <p:sp>
        <p:nvSpPr>
          <p:cNvPr id="100" name=""/>
          <p:cNvSpPr/>
          <p:nvPr/>
        </p:nvSpPr>
        <p:spPr>
          <a:xfrm>
            <a:off x="2819520" y="4191120"/>
            <a:ext cx="5105160" cy="7617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C1845B9-8057-47BC-A1E2-96452B4D81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510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munication: When Does </a:t>
            </a:r>
            <a:br>
              <a:rPr sz="4000"/>
            </a:br>
            <a:r>
              <a:rPr b="0" lang="en-US" sz="4000" spc="-1" strike="noStrike">
                <a:solidFill>
                  <a:srgbClr val="2f8b20"/>
                </a:solidFill>
                <a:latin typeface="Arial"/>
              </a:rPr>
              <a:t>Big Business Limit Free Speech?</a:t>
            </a:r>
            <a:endParaRPr b="0" lang="en-US" sz="4000" spc="-1" strike="noStrike">
              <a:solidFill>
                <a:srgbClr val="2f8b20"/>
              </a:solidFill>
              <a:latin typeface="Arial"/>
            </a:endParaRPr>
          </a:p>
        </p:txBody>
      </p:sp>
      <p:sp>
        <p:nvSpPr>
          <p:cNvPr id="102" name="PlaceHolder 2"/>
          <p:cNvSpPr>
            <a:spLocks noGrp="1"/>
          </p:cNvSpPr>
          <p:nvPr>
            <p:ph/>
          </p:nvPr>
        </p:nvSpPr>
        <p:spPr>
          <a:xfrm>
            <a:off x="685800" y="1752120"/>
            <a:ext cx="769608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Google Acted Unethical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crificed free speech for busi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olated human righ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incentive for China to chan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rights hang in the bal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far is too far?</a:t>
            </a:r>
            <a:endParaRPr b="0" lang="en-US" sz="2800" spc="-1" strike="noStrike">
              <a:solidFill>
                <a:srgbClr val="000000"/>
              </a:solidFill>
              <a:latin typeface="Arial"/>
            </a:endParaRPr>
          </a:p>
        </p:txBody>
      </p:sp>
      <p:sp>
        <p:nvSpPr>
          <p:cNvPr id="103" name=""/>
          <p:cNvSpPr/>
          <p:nvPr/>
        </p:nvSpPr>
        <p:spPr>
          <a:xfrm>
            <a:off x="2819520" y="4191120"/>
            <a:ext cx="5105160" cy="7617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B7D646D-8A9C-482A-A23C-FFED11B549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510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munication: When Does </a:t>
            </a:r>
            <a:br>
              <a:rPr sz="4000"/>
            </a:br>
            <a:r>
              <a:rPr b="0" lang="en-US" sz="4000" spc="-1" strike="noStrike">
                <a:solidFill>
                  <a:srgbClr val="2f8b20"/>
                </a:solidFill>
                <a:latin typeface="Arial"/>
              </a:rPr>
              <a:t>Big Business Limit Free Speech?</a:t>
            </a:r>
            <a:endParaRPr b="0" lang="en-US" sz="4000" spc="-1" strike="noStrike">
              <a:solidFill>
                <a:srgbClr val="2f8b20"/>
              </a:solidFill>
              <a:latin typeface="Arial"/>
            </a:endParaRPr>
          </a:p>
        </p:txBody>
      </p:sp>
      <p:sp>
        <p:nvSpPr>
          <p:cNvPr id="105" name="PlaceHolder 2"/>
          <p:cNvSpPr>
            <a:spLocks noGrp="1"/>
          </p:cNvSpPr>
          <p:nvPr>
            <p:ph/>
          </p:nvPr>
        </p:nvSpPr>
        <p:spPr>
          <a:xfrm>
            <a:off x="685800" y="1752120"/>
            <a:ext cx="769608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erpoint: Google’s Actions Were Justifi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ies should pursue profi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drawing from China would further restrict free spee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s the slow progress toward democracy</a:t>
            </a:r>
            <a:endParaRPr b="0" lang="en-US" sz="2800" spc="-1" strike="noStrike">
              <a:solidFill>
                <a:srgbClr val="000000"/>
              </a:solidFill>
              <a:latin typeface="Arial"/>
            </a:endParaRPr>
          </a:p>
        </p:txBody>
      </p:sp>
      <p:sp>
        <p:nvSpPr>
          <p:cNvPr id="106" name=""/>
          <p:cNvSpPr/>
          <p:nvPr/>
        </p:nvSpPr>
        <p:spPr>
          <a:xfrm>
            <a:off x="2819520" y="4191120"/>
            <a:ext cx="5105160" cy="7617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165039F-D8D5-4B0F-A242-58E3F45371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555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puter Abuse: Does </a:t>
            </a:r>
            <a:br>
              <a:rPr sz="4000"/>
            </a:br>
            <a:r>
              <a:rPr b="0" lang="en-US" sz="4000" spc="-1" strike="noStrike">
                <a:solidFill>
                  <a:srgbClr val="2f8b20"/>
                </a:solidFill>
                <a:latin typeface="Arial"/>
              </a:rPr>
              <a:t>Restricting Online Information Protect Children?</a:t>
            </a:r>
            <a:endParaRPr b="0" lang="en-US" sz="4000" spc="-1" strike="noStrike">
              <a:solidFill>
                <a:srgbClr val="2f8b20"/>
              </a:solidFill>
              <a:latin typeface="Arial"/>
            </a:endParaRPr>
          </a:p>
        </p:txBody>
      </p:sp>
      <p:sp>
        <p:nvSpPr>
          <p:cNvPr id="108" name=""/>
          <p:cNvSpPr txBox="1"/>
          <p:nvPr/>
        </p:nvSpPr>
        <p:spPr>
          <a:xfrm>
            <a:off x="533520" y="2209320"/>
            <a:ext cx="815328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allow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xual predators to contact potential victi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of pornograph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berbully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sh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 of hate speech</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95CBD92-36AD-479F-95C6-48A6C397A0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puter Abuse: Does </a:t>
            </a:r>
            <a:br>
              <a:rPr sz="4000"/>
            </a:br>
            <a:r>
              <a:rPr b="0" lang="en-US" sz="4000" spc="-1" strike="noStrike">
                <a:solidFill>
                  <a:srgbClr val="2f8b20"/>
                </a:solidFill>
                <a:latin typeface="Arial"/>
              </a:rPr>
              <a:t>Restricting Online Information Protect Children?</a:t>
            </a:r>
            <a:endParaRPr b="0" lang="en-US" sz="4000" spc="-1" strike="noStrike">
              <a:solidFill>
                <a:srgbClr val="2f8b20"/>
              </a:solidFill>
              <a:latin typeface="Arial"/>
            </a:endParaRPr>
          </a:p>
        </p:txBody>
      </p:sp>
      <p:sp>
        <p:nvSpPr>
          <p:cNvPr id="110" name="PlaceHolder 2"/>
          <p:cNvSpPr>
            <a:spLocks noGrp="1"/>
          </p:cNvSpPr>
          <p:nvPr>
            <p:ph/>
          </p:nvPr>
        </p:nvSpPr>
        <p:spPr>
          <a:xfrm>
            <a:off x="609480" y="2133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 are especially vulnerabl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echnology more than adult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trusting than some adult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not recognize malicious inten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FB9CF3D-F954-42B4-B14D-B574FFA396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6555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puter Abuse: Does </a:t>
            </a:r>
            <a:br>
              <a:rPr sz="4000"/>
            </a:br>
            <a:r>
              <a:rPr b="0" lang="en-US" sz="4000" spc="-1" strike="noStrike">
                <a:solidFill>
                  <a:srgbClr val="2f8b20"/>
                </a:solidFill>
                <a:latin typeface="Arial"/>
              </a:rPr>
              <a:t>Restricting Online Information Protect Children?</a:t>
            </a:r>
            <a:endParaRPr b="0" lang="en-US" sz="4000" spc="-1" strike="noStrike">
              <a:solidFill>
                <a:srgbClr val="2f8b20"/>
              </a:solidFill>
              <a:latin typeface="Arial"/>
            </a:endParaRPr>
          </a:p>
        </p:txBody>
      </p:sp>
      <p:sp>
        <p:nvSpPr>
          <p:cNvPr id="112" name=""/>
          <p:cNvSpPr txBox="1"/>
          <p:nvPr/>
        </p:nvSpPr>
        <p:spPr>
          <a:xfrm>
            <a:off x="533520" y="2209320"/>
            <a:ext cx="815328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Monitoring Software Protects Childre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s have proved ineffect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libraries and schools are sa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hold moral standards of the publ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l extension of the library screening proces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79B2274-9B1B-41DE-8CA8-EDFFE49365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thics Defined</a:t>
            </a:r>
            <a:endParaRPr b="0" lang="en-US" sz="4400" spc="-1" strike="noStrike">
              <a:solidFill>
                <a:srgbClr val="2f8b20"/>
              </a:solidFill>
              <a:latin typeface="Arial"/>
            </a:endParaRPr>
          </a:p>
        </p:txBody>
      </p:sp>
      <p:sp>
        <p:nvSpPr>
          <p:cNvPr id="54"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of morals and moral cho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ch established ideas of right and wro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r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lines for decision making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9BB617D-2915-4D5F-8259-A9017752D9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555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puter Abuse: Does </a:t>
            </a:r>
            <a:br>
              <a:rPr sz="4000"/>
            </a:br>
            <a:r>
              <a:rPr b="0" lang="en-US" sz="4000" spc="-1" strike="noStrike">
                <a:solidFill>
                  <a:srgbClr val="2f8b20"/>
                </a:solidFill>
                <a:latin typeface="Arial"/>
              </a:rPr>
              <a:t>Restricting Online Information Protect Children?</a:t>
            </a:r>
            <a:endParaRPr b="0" lang="en-US" sz="4000" spc="-1" strike="noStrike">
              <a:solidFill>
                <a:srgbClr val="2f8b20"/>
              </a:solidFill>
              <a:latin typeface="Arial"/>
            </a:endParaRPr>
          </a:p>
        </p:txBody>
      </p:sp>
      <p:sp>
        <p:nvSpPr>
          <p:cNvPr id="114" name=""/>
          <p:cNvSpPr txBox="1"/>
          <p:nvPr/>
        </p:nvSpPr>
        <p:spPr>
          <a:xfrm>
            <a:off x="533520" y="2209320"/>
            <a:ext cx="815328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erpoint: Monitoring Software Restricts Access to Inform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cks informational cont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unts to censorshi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not 100% reli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ns the “digital divi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 is a better alternative</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A63EA5F-3EE8-4FC5-BCB5-60F04064D3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Using Computers to Support Ethical Conduct</a:t>
            </a:r>
            <a:endParaRPr b="0" lang="en-US" sz="4000" spc="-1" strike="noStrike">
              <a:solidFill>
                <a:srgbClr val="2f8b20"/>
              </a:solidFill>
              <a:latin typeface="Arial"/>
            </a:endParaRPr>
          </a:p>
        </p:txBody>
      </p:sp>
      <p:sp>
        <p:nvSpPr>
          <p:cNvPr id="116" name="PlaceHolder 2"/>
          <p:cNvSpPr>
            <a:spLocks noGrp="1"/>
          </p:cNvSpPr>
          <p:nvPr>
            <p:ph/>
          </p:nvPr>
        </p:nvSpPr>
        <p:spPr>
          <a:xfrm>
            <a:off x="456840" y="18288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itable organizations use the Internet for fund rai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nies must provide mechanisms to report unethical behavior anonymous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anets and e-mail are used to inform employees of ethics poli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r personal ethics must guide your decisions concerning technolog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2195CF1-AB2D-46C8-AF6C-8156876DBF2D}"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thics Defined</a:t>
            </a:r>
            <a:endParaRPr b="0" lang="en-US" sz="4400" spc="-1" strike="noStrike">
              <a:solidFill>
                <a:srgbClr val="2f8b20"/>
              </a:solidFill>
              <a:latin typeface="Arial"/>
            </a:endParaRPr>
          </a:p>
        </p:txBody>
      </p:sp>
      <p:sp>
        <p:nvSpPr>
          <p:cNvPr id="56"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of ethical condu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al relativ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uational ethi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gious tradi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A740C99-2AF6-454D-AA5E-8362890455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thics Defined</a:t>
            </a:r>
            <a:endParaRPr b="0" lang="en-US" sz="4400" spc="-1" strike="noStrike">
              <a:solidFill>
                <a:srgbClr val="2f8b20"/>
              </a:solidFill>
              <a:latin typeface="Arial"/>
            </a:endParaRPr>
          </a:p>
        </p:txBody>
      </p:sp>
      <p:sp>
        <p:nvSpPr>
          <p:cNvPr id="58" name="PlaceHolder 2"/>
          <p:cNvSpPr>
            <a:spLocks noGrp="1"/>
          </p:cNvSpPr>
          <p:nvPr>
            <p:ph/>
          </p:nvPr>
        </p:nvSpPr>
        <p:spPr>
          <a:xfrm>
            <a:off x="380880" y="1600200"/>
            <a:ext cx="8763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thical behavi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conforming to a set of approved standa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or professiona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4C0FAFC-32D7-4F17-9584-3B5999BDC8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ersonal Ethics</a:t>
            </a:r>
            <a:endParaRPr b="0" lang="en-US" sz="4400" spc="-1" strike="noStrike">
              <a:solidFill>
                <a:srgbClr val="2f8b20"/>
              </a:solidFill>
              <a:latin typeface="Arial"/>
            </a:endParaRPr>
          </a:p>
        </p:txBody>
      </p:sp>
      <p:sp>
        <p:nvSpPr>
          <p:cNvPr id="60" name="PlaceHolder 2"/>
          <p:cNvSpPr>
            <a:spLocks noGrp="1"/>
          </p:cNvSpPr>
          <p:nvPr>
            <p:ph/>
          </p:nvPr>
        </p:nvSpPr>
        <p:spPr>
          <a:xfrm>
            <a:off x="60948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list of personal decis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well-defi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applied inconsistentl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1F15CB8-4D9C-4D2A-B7E5-C39C7B7A1D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ersonal Ethics</a:t>
            </a:r>
            <a:endParaRPr b="0" lang="en-US" sz="4400" spc="-1" strike="noStrike">
              <a:solidFill>
                <a:srgbClr val="2f8b20"/>
              </a:solidFill>
              <a:latin typeface="Arial"/>
            </a:endParaRPr>
          </a:p>
        </p:txBody>
      </p:sp>
      <p:sp>
        <p:nvSpPr>
          <p:cNvPr id="62"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they develo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 and cultural bi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gious affili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 experienc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89A1FCE-BD51-44AF-8EF2-940C5892EF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efine Your Personal Ethics</a:t>
            </a:r>
            <a:endParaRPr b="0" lang="en-US" sz="4400" spc="-1" strike="noStrike">
              <a:solidFill>
                <a:srgbClr val="2f8b2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yoursel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your belief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external influe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e a statement of valu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8BEE651-D906-4E8E-83E5-2690676408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ersonal Ethics</a:t>
            </a:r>
            <a:endParaRPr b="0" lang="en-US" sz="4400" spc="-1" strike="noStrike">
              <a:solidFill>
                <a:srgbClr val="2f8b20"/>
              </a:solidFill>
              <a:latin typeface="Arial"/>
            </a:endParaRPr>
          </a:p>
        </p:txBody>
      </p:sp>
      <p:sp>
        <p:nvSpPr>
          <p:cNvPr id="66" name="PlaceHolder 2"/>
          <p:cNvSpPr>
            <a:spLocks noGrp="1"/>
          </p:cNvSpPr>
          <p:nvPr>
            <p:ph/>
          </p:nvPr>
        </p:nvSpPr>
        <p:spPr>
          <a:xfrm>
            <a:off x="456840" y="1600200"/>
            <a:ext cx="8001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efits of ethical liv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eying law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stress and ang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happines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84FE80D-8BF6-42EA-AB37-399784BFAC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hannon LeMay Finn</cp:lastModifiedBy>
  <dcterms:modified xsi:type="dcterms:W3CDTF">2007-08-20T20:14:28Z</dcterms:modified>
  <cp:revision>104</cp:revision>
  <dc:subject/>
  <dc:title>Slide 1</dc:title>
</cp:coreProperties>
</file>